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E12-30E5-49D3-95FE-35CA484B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90D-F5D1-4F7C-9F53-62735C53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284-CAF1-48C5-9EF5-B3D28BA4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53F-62E4-4917-9329-61375062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6D2D-DBAE-4AB3-B1B0-5B1014BE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D964-B6BA-4EEF-B9D6-A6A33B8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8F7-7D4A-4E8F-A760-DBBFF8B4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25CD-FC5C-45E5-8C68-EDA7F9EE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38E-92AB-4699-8E72-959AE1E3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EDE-912C-41C1-83D0-63860143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8C43-702A-4DAF-A7D4-FE62F7A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D68-8E09-43A7-8DFE-247FE5EF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C957-2310-419C-9B33-468CCE4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0533-3954-40DE-95FA-E632883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9DAB-F88E-4A7B-B562-94C31390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3B64-A846-4639-83E6-0924E608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5B6B-F03A-4591-8A42-9EB514ED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56DC-CB16-49EE-85D4-523FF3C8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58CE-39EC-4767-9CBC-5293F68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23A1-E42C-440F-B6DC-1A16EC35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2DA0-AEA2-4125-97C3-39BDB89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0966-4553-4AE6-82ED-74013AE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6B2-32D3-4067-9470-A078802B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2F94-3491-4F0C-BE28-7CC1E856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2390-9BB7-4282-BF32-F005F46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265E-630A-4CB6-B2E1-2608FBD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987E-96DC-4E52-B453-012AFA0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4272-9274-45F2-BD70-3C655668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C927-05E3-4953-9E6E-342E8A71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14639-18F0-4B51-B10B-55EC914B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1467-9BDA-483E-A9DC-BDE86413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493E-7811-4B47-A3C7-C7CE455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DF68-EB4D-4861-82E3-FFD3118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F4A-77EA-4120-A0D5-4CFD31E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1B6F-F030-4989-853C-750B7BA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A6FC-0FB4-4F3B-BEFB-75696F16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01FE-A26C-4F31-9018-BF056689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167D-1CD4-4AF5-9440-80FD4E5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BBC9-61EA-4D5F-8B51-BDC49AD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197F-8F09-4F69-943E-6A0AC197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9644-1117-4876-8778-01FAADC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1896-AE54-4864-962C-D6DD42E8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99D6-6B50-480B-BD8C-204F08F1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FE99-8BC8-4EE8-9EA9-686A43EE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846-B09C-484F-BF83-F3229DE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FC05-78AD-4CB0-9479-94949926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E2728-6F5C-4BE9-985A-F2072BF3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83E81-6C7A-4ADB-9208-894D938C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16D54-6B1A-4CE8-AECF-41B1FFC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79CA-CE96-46B7-BF22-A532D1C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BC1C-050A-4B48-BCA0-507029E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3B3F9-91FC-416E-8111-5992C18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86DA-62FA-41F0-9B5F-0310F70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3C89-7A8E-41CC-9A73-527488D2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896F-760E-4247-BBB1-8607A3B6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59A-87C6-4CA9-9902-4FA2181E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0E71-B015-4764-A624-58C44F89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FBA-59B1-463A-9852-600CE93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B62-FCEE-4C6C-932F-A89048BF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5A0-D7C0-412E-8D01-80DD6FA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EB5-EB3D-47E2-8F1D-A968CECF8F7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3F55-4225-4B3D-BF77-BAA64DF6E3E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9A69-4815-4616-9124-E6E65184FC3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013-44B9-4CA9-9143-80AE6035DE0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D088-BFE6-4CA3-A751-65979739376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5.1a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Access information from a variety of primary and secondary sources, including electronic text, experts, and prime resources, to locate information relevant to research questio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5.1a 014.jpg"/>
          <p:cNvPicPr/>
          <p:nvPr/>
        </p:nvPicPr>
        <p:blipFill>
          <a:blip r:embed="rId1"/>
          <a:srcRect l="7934" t="12255" r="9763" b="32222"/>
          <a:stretch/>
        </p:blipFill>
        <p:spPr>
          <a:xfrm>
            <a:off x="1676520" y="380880"/>
            <a:ext cx="54864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8d3e"/>
                </a:solidFill>
                <a:latin typeface="Verdana"/>
              </a:rPr>
              <a:t>How can a reader select the best source for information about a research topic?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Sourc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ary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a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view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ett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yewitness accoun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similar about these resources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se are all primary sources.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imary sources are often available as electronic texts on Web sites, and this makes it possible to look at original documents that would otherwise not be availab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yclopedi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ctiona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xtboo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story boo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similar about these resource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all Secondary 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5.1a 009.jpg"/>
          <p:cNvPicPr/>
          <p:nvPr/>
        </p:nvPicPr>
        <p:blipFill>
          <a:blip r:embed="rId1"/>
          <a:srcRect l="0" t="7778" r="0" b="38816"/>
          <a:stretch/>
        </p:blipFill>
        <p:spPr>
          <a:xfrm>
            <a:off x="1143000" y="380880"/>
            <a:ext cx="6934320" cy="60962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2514600" y="4572000"/>
            <a:ext cx="426708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primary and secondary sources are valuable when researching information on a topic, but it is important to evaluate the available sources to see which is the best one to u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5.1a 010.jpg"/>
          <p:cNvPicPr/>
          <p:nvPr/>
        </p:nvPicPr>
        <p:blipFill>
          <a:blip r:embed="rId1"/>
          <a:srcRect l="8804" t="7778" r="10179" b="63872"/>
          <a:stretch/>
        </p:blipFill>
        <p:spPr>
          <a:xfrm>
            <a:off x="457200" y="609480"/>
            <a:ext cx="8201160" cy="47246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838080" y="5562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topic of this pass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5.1a 010.jpg"/>
          <p:cNvPicPr/>
          <p:nvPr/>
        </p:nvPicPr>
        <p:blipFill>
          <a:blip r:embed="rId1"/>
          <a:srcRect l="7934" t="36083" r="11591" b="25020"/>
          <a:stretch/>
        </p:blipFill>
        <p:spPr>
          <a:xfrm>
            <a:off x="1676520" y="533520"/>
            <a:ext cx="7086600" cy="56386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457200" y="1447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prim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33520" y="2971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second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09680" y="1447920"/>
            <a:ext cx="6324840" cy="1066680"/>
          </a:xfrm>
          <a:prstGeom prst="rect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09680" y="2514600"/>
            <a:ext cx="6324840" cy="16002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209680" y="4114800"/>
            <a:ext cx="6324840" cy="1523880"/>
          </a:xfrm>
          <a:prstGeom prst="rect">
            <a:avLst/>
          </a:prstGeom>
          <a:solidFill>
            <a:srgbClr val="b45f07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8d3e"/>
                </a:solidFill>
                <a:latin typeface="Verdana"/>
              </a:rPr>
              <a:t>How can a reader select the best source for information about a research topic?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pic being resear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dditional information about the topic could be resear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sources ar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ther the information is likely to be in the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C:\Documents and Settings\maxweel\Local Settings\Temporary Internet Files\Content.IE5\C5UFK5QN\MP900439510[1].jpg"/>
          <p:cNvPicPr/>
          <p:nvPr/>
        </p:nvPicPr>
        <p:blipFill>
          <a:blip r:embed="rId1"/>
          <a:stretch/>
        </p:blipFill>
        <p:spPr>
          <a:xfrm>
            <a:off x="6248520" y="3505320"/>
            <a:ext cx="224784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5.1a 011.jpg"/>
          <p:cNvPicPr/>
          <p:nvPr/>
        </p:nvPicPr>
        <p:blipFill>
          <a:blip r:embed="rId1"/>
          <a:srcRect l="4277" t="14443" r="7934" b="25557"/>
          <a:stretch/>
        </p:blipFill>
        <p:spPr>
          <a:xfrm>
            <a:off x="1752480" y="457200"/>
            <a:ext cx="5334120" cy="6000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2362320" y="2133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the topic of this paragraph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457200" y="2819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prim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457200" y="4267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of these are secondary sourc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5.1a 012.jpg"/>
          <p:cNvPicPr/>
          <p:nvPr/>
        </p:nvPicPr>
        <p:blipFill>
          <a:blip r:embed="rId1"/>
          <a:srcRect l="9763" t="12222" r="9763" b="38889"/>
          <a:stretch/>
        </p:blipFill>
        <p:spPr>
          <a:xfrm>
            <a:off x="18288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5.1a 013.jpg"/>
          <p:cNvPicPr/>
          <p:nvPr/>
        </p:nvPicPr>
        <p:blipFill>
          <a:blip r:embed="rId1"/>
          <a:srcRect l="7934" t="12222" r="9763" b="33332"/>
          <a:stretch/>
        </p:blipFill>
        <p:spPr>
          <a:xfrm>
            <a:off x="1676520" y="380880"/>
            <a:ext cx="563868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09:40Z</dcterms:created>
  <dc:creator>maxweel</dc:creator>
  <dc:description/>
  <dc:language>en-US</dc:language>
  <cp:lastModifiedBy>maxweel</cp:lastModifiedBy>
  <dcterms:modified xsi:type="dcterms:W3CDTF">2010-10-15T16:55:43Z</dcterms:modified>
  <cp:revision>17</cp:revision>
  <dc:subject/>
  <dc:title>5.1a</dc:title>
</cp:coreProperties>
</file>